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4A75-BD15-47AD-AACA-8956EFDD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6BF5-DCC4-4548-8B28-D7ACFC22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8DCC-E0B2-4D02-AA20-C21261CB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EBB-CA5C-4042-8A48-A3627FEA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DD1A-051A-4F8C-B0ED-9E187225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D928-DB54-4BF2-AD57-7DCE943B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21CA-E66E-49C8-895B-6C72A3B1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251E-8AC7-40A1-A8C8-0ADA1F24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3A75-4733-433A-BFAE-C24EFF2A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06D-B468-424E-BC40-F0497445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952D-42B0-4D28-9BCB-BEBAE72C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A004-9ADA-4CB4-BB10-01B8853C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ccff"/>
            </a:gs>
            <a:gs pos="100000">
              <a:srgbClr val="ff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6BE4-8086-4DCB-9E97-FFD4E5C96A8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Тема урока:</a:t>
            </a:r>
            <a:r>
              <a:rPr b="0" lang="ru-RU" sz="32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сочинение-описание памятника архитектуры</a:t>
            </a:r>
            <a:br>
              <a:rPr sz="3200"/>
            </a:b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Храм Василия Блаженного</a:t>
            </a:r>
            <a:br>
              <a:rPr sz="3200"/>
            </a:b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8 класс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9900"/>
                </a:solidFill>
                <a:latin typeface="Tahoma"/>
              </a:rPr>
              <a:t>Цели уро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продолжить знакомство</a:t>
            </a:r>
            <a:r>
              <a:rPr b="0" lang="ru-RU" sz="3200" spc="-1" strike="noStrike">
                <a:solidFill>
                  <a:srgbClr val="666633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с архитектурными памятниками Росс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познакомиться с отличительными архитектурными особенностями храма Василия Блаженног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развивать умение воспроизводить архитектурные детали памятни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воспитание эстетического вку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5181480" y="565776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5481"/>
                </a:solidFill>
                <a:latin typeface="Times New Roman"/>
                <a:ea typeface="Times New Roman"/>
              </a:rPr>
              <a:t>Автор разработк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5481"/>
                </a:solidFill>
                <a:latin typeface="Times New Roman"/>
                <a:ea typeface="Times New Roman"/>
              </a:rPr>
              <a:t>Алексеева Т.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5481"/>
                </a:solidFill>
                <a:latin typeface="Times New Roman"/>
                <a:ea typeface="Times New Roman"/>
              </a:rPr>
              <a:t>учитель русского языка и литературы ЛГ МАОУ СОШ №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04920" y="5437080"/>
            <a:ext cx="160020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рам-памятник начал строиться в 1554 году в ознамен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еликой победы: русское войско штурмом взяло Казань. Камен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бор Покрова теперь известен как храм Василия Блаженного, п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мени юродивого, похороненного у стен собо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семь столпов храма окружают девятый. Каждый купо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ригинален, неповторим. Центральный храм венчает шатер. Э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истине сказочно красивое здание, изумляющее сво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рядностью, неожиданностью замысл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4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5562720" y="3886200"/>
            <a:ext cx="2755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ahoma"/>
              </a:rPr>
              <a:t>Слово учител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Наше знакомство с храмом Василия Блаженного подходит 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концу, и мне остается пожелать вам мысленно соверши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экскурсию в красивейший архитектурный памятник России – хра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Василия Блаженного, а потом письменно поделить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впечатлениями от увиденного и услышанного о н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Памятники – это наша история и наша память, и мне кажетс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пока мы помним об истории страны, мы продолжаем ее жизн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Желаю вам успеха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5715000" y="4419720"/>
            <a:ext cx="252720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ff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1. Организационный момен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2. Словарная рабо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3. Работа в групп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4. Представление итогов работы груп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5. Работа с черновик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6. Написание сочинения-опис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Script MT Bold"/>
              </a:rPr>
              <a:t>Словарная рабо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i="1" lang="ru-RU" sz="3600" spc="-1" strike="noStrike">
                <a:solidFill>
                  <a:srgbClr val="ff0000"/>
                </a:solidFill>
                <a:latin typeface="Tahoma"/>
              </a:rPr>
              <a:t>Зодч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0" i="1" lang="ru-RU" sz="3600" spc="-1" strike="noStrike">
                <a:solidFill>
                  <a:srgbClr val="ff0000"/>
                </a:solidFill>
                <a:latin typeface="Tahoma"/>
              </a:rPr>
              <a:t>Архитектура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i="1" lang="ru-RU" sz="3600" spc="-1" strike="noStrike">
                <a:solidFill>
                  <a:srgbClr val="ff0000"/>
                </a:solidFill>
                <a:latin typeface="Tahoma"/>
              </a:rPr>
              <a:t>Юродивый, блажен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i="1" lang="ru-RU" sz="3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i="1" lang="ru-RU" sz="3600" spc="-1" strike="noStrike">
                <a:solidFill>
                  <a:srgbClr val="ff0000"/>
                </a:solidFill>
                <a:latin typeface="Tahoma"/>
              </a:rPr>
              <a:t>Храм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0" i="1" lang="ru-RU" sz="3600" spc="-1" strike="noStrike">
                <a:solidFill>
                  <a:srgbClr val="ff0000"/>
                </a:solidFill>
                <a:latin typeface="Tahoma"/>
              </a:rPr>
              <a:t>Собор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i="1" lang="ru-RU" sz="3600" spc="-1" strike="noStrike">
                <a:solidFill>
                  <a:srgbClr val="ff0000"/>
                </a:solidFill>
                <a:latin typeface="Tahoma"/>
              </a:rPr>
              <a:t>Столп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Подкле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Приде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4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4572000" y="3276720"/>
            <a:ext cx="334008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1676520" y="533520"/>
            <a:ext cx="624816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Изучите источники информации о истории создания храма Василия Блаженно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Отберите материал, который можно использовать для вступления, главной части и заключения сочинения-опис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Подготовьте его представление для учащихся другой групп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1828800" y="2286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ния 1 группе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Picture 6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6324480" y="4800600"/>
            <a:ext cx="190512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Когда был создан хра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Кто его автор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Какое впечатление он производит на смотрящи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1828800" y="457200"/>
            <a:ext cx="541008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ния 2 группе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Picture 6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4800600" y="3792600"/>
            <a:ext cx="3137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октябре 1552 года Москва стала свидетельницей невиданного до того всенародного торжества. Из-под стен взятой штурмом Казани вернулись русские войска во главе с Иваном Грозным. В ознаменование этой великой победы царь решил построить в Москве храм-памятник. Через два года началось сооружение каменного собора Покрова. Позднее он был назван храмом Василия Блаженного, по имени погребенного к его стен юродивог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то удивительное сооружение поражает своей оригинальностью. Необыкновенный цветок его причудливых форм, объединенных центральным шатром, не только напоминает многоглавую группу кремлевских соборов , но и парит над широко раскинувшимся простором площади.  Собор состоит из восьми столпов, окружающих девятый. Столпы-храмы стоят на широком подклете сложного звездчатого очертания. Это невиданно нарядное, праздничное сооружение похожее на гигантское растение или цветущий кус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1066680" y="533520"/>
            <a:ext cx="647712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териалы для групп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Центральный храм увенчан шатром, приделы, расположенные п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оронам света, башнеобразной формы, несколько напоминаю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локольню Ивана Великого. При обходе храма перед зрителем 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растает стройная грандиозная пирамида храма, увенчанная шатром, п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ням которого бегут ввысь золоченые спирали, то отчетлив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ановятся его растущие вверх башнеобразные объемы. Замысловат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тали придают храму нарядный и сказочный вид. Несомненно, в эт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раме воплощены народные представления о великой поэтичес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расоте архитектур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мена создателей Василия Блаженного со временем забылись, и толь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конце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ека были обнаружены старинные рукописи с рассказом 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ногих подробностях сооружения собора, в том числе о его строителях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ирме и Постнике, талантливых русских зодчих. Легенда гласит, что посл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кончания строительства Иван Грозный спросил зодчих, смогут ли о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ть еще один точно тайкой храм. Те ответили, что смогут. И тог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царь приказал ослепить их, чтобы не могло возникнуть соперника е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рам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Tahoma"/>
              </a:rPr>
              <a:t>Вариант сообщения учащегос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рам Василия Блаженного находится в самом центре нашей столиц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одно из сооружений, ограничивающих пространство Крас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щади. Храм поражает своей необычностью, оригинальностью. 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хож на яркую гигантскую игрушку, собранную из разных част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ьими-то талантливыми рук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создали храм русские зодчие Барма и Постник, поплатившиеся 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гениальное произведение своим зрением. По легенде, царь Ив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озный велел ослепить зодчих, чтобы они не смогли построить ч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будь подобное. Храм остался уникальным сооружением, которым любуются люди уже в течение четырех с половиной ве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4-04-04T11:57:59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